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FA1E-0E13-4431-BDB3-EFBD0B01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72F3-C9A2-40BD-BEB0-1528A62B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6908F-4897-4D91-9CC3-FDDC436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F06D5-7178-4744-92C7-A955B002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6CAD8-A71A-467E-84D0-6BA1AB9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77909-FC0B-4513-A2FD-C631AE6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D177D-B8A7-4A66-934E-5900440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4403-DE01-43E7-B182-F6CDCE7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6C1C8-E72F-4E6A-9EFE-05C18D78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23E54-5D68-4155-8B4C-1A83F670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47CC-7E0A-4072-B7BE-72593E8F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D79EF-235D-47CF-B3BB-0D3A2C77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5795-AD48-41B9-AA16-3AB15E16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A4C70-E76D-4CB9-BB16-7622D84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AF67F-E9ED-49DD-B87C-8FEAEFF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15161-5947-47C6-B0B9-ACDF68B4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9769D-920B-4648-8C1F-DF0EB48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9AC6-6A20-4311-B0D2-5EE48F62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51074-53A1-479B-AD5B-4B0A4BD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A5DAA-8D81-4FD1-ADB7-D6A2C95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4C16-1F60-4A31-8887-ADEA5D9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0C0A4-873B-4E6D-A2B1-8FF2D43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D6C92-4258-461D-B3E6-5C7A2899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8F30-C206-4626-832D-665331B9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54447-7E86-4EA3-AE11-0442EF36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E79C-C9FC-476C-93F5-A867B016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2AD44-E47C-4D32-AB6C-1B24AC1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DC6A2-1AA2-4681-B0B5-385651C1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6D5E6-4145-42FD-BAF4-ECC23075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1E9AD-C6D3-40C1-974D-1B0F001D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FE55D-EB3E-4D26-8100-E6DC00D4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8E243-083E-47A9-BBF8-0763D2A5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7302-C1EB-4EA5-BDB5-B416F8E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952DC-3BB5-4C43-8767-3CC9CFF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A3B1-60EB-47CA-803D-AC8A63D7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6C6DE-43DC-49AA-8543-C8DBF3FC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0956C-05C4-4A85-AE97-9D1833DB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297DE-AF03-447D-AE35-415428A1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E5DDC-45CA-4B62-A434-29A4AEE5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3A675-D125-4599-829A-B1F2702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3B6EC-24A6-4AFC-ACBA-508C52A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5C915-5F8C-4254-93D6-EAB92AA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778E3-304D-4D0A-BF94-5908ADF8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9EF67-2D90-470E-863B-3962627F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CED61-68E2-4652-9FEB-8E6A7213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6A6E-461D-4ED8-BCAB-5593581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3646F-66F3-401E-8047-49E5C23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A152-A57F-41EA-B33C-D47183A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DAA6C-C6E6-4A9D-84B7-C28AEF13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D3C86-095B-48FD-8A42-94DD3ACF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2EF84-B066-4DA5-A3A7-B79104C5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0D99-1DCA-4364-A17A-19E10CD9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71A-D139-44C9-8AB2-DF9DE947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F869-7B19-4781-B1E8-063DB93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7B9-716F-4EB7-8EE4-483F4FEC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AB7-1141-43E0-87DE-70C1210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649D-ED7D-48A8-955E-2C33E01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2AED-633E-48EA-8748-059AE44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0DF5-E971-4B8E-B5D2-705FF13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442-A8D8-4757-9D30-DA59700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866C-00F6-45A8-B457-C2517F65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ED8-5C01-4F52-8879-3B9E9927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AE52-37BA-44B7-ADF7-5D5DE48C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A9C9-69DA-4F77-B65E-40319E9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7234-0A4E-44CE-9CD0-2D572558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B5B9-AF75-4DC4-8566-E4BA7CD3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A3D7-BB99-4B38-B317-3131000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8BA3-3599-492B-81E1-CC9BA94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42D2-DD61-453F-9F2D-B81ABEDB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F9F7-7B74-4D3A-A715-49DD789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25C1-59CD-4321-8C66-D1D350D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FBB9-E36D-4377-9788-AD8322A6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F27E-3495-40B4-8F7B-96A8BDA3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DD6F-5CF0-41AD-9761-EF3F600E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D9C8-FE45-4A9B-B22E-70751860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D817-D006-4528-A77F-81009594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1AFE-5C19-4479-9119-0267CB7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C413-468D-4AC9-8B20-5667ED3E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9DDF-D4F7-4EC6-A239-514C2E5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649A-D266-460C-9D5C-605133A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11F1-0D87-4D71-9114-2F980EAE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8D77-E730-4E3A-ABBD-FCF9E74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BD922-4B3E-4D10-8AD1-6690F0FC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1789-E526-4413-AB14-BC2F304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8927-37E1-4C81-B24E-D26E22C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5A10-3A59-442E-BED1-AA5F3A1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E39A-5619-4CC7-904C-50E144FD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018A-3589-4FD5-93EE-8C631D61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1DD2-DF86-493C-959F-37AD3EA1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6B30-B92A-43E7-A105-4EA72D3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FF6DE-0D5F-4C26-97F7-9DEEEBB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6FAD-2EC2-4EE2-84BF-DA43D10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883A-AF31-49A5-A14F-597878E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CD9DC-9639-4032-A621-519F284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82EF-6F07-44A4-A7F3-E560F13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778A-94F8-4A56-A077-114B0D34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0D1B-D9E2-44F9-B413-0BC5ACD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15F5-C024-4568-83AC-06EE2F8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3060-870B-4604-9FE0-EBFC6F7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4492-5EAA-4F5B-B85E-4CE9A7BF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4A09-7E8F-47C3-B67B-429DEB13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D278-400A-4BE6-BC5D-456C9F4E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0DD3-3C3B-4259-ABE3-471B86C4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CF3F-5CE1-42C5-A52F-A7ED7F72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2EE0-6D28-4CF7-8DBC-5DE29C76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942F-4C3C-47C3-89B6-FA81C0E3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27B2-EFBA-4348-BA19-74EC6F5B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36D2-7870-4F72-8695-524E194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CBC6-98C8-42CF-B0C7-132E463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E55E-3DAE-4C7D-AB7D-F4662CA3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2BFB2-1891-49A6-8ECB-C7FBC64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9F86-58B1-42D9-BB1D-8223380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3987-FD0D-4D73-8832-61B0F5B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4743-D955-420C-9ECE-50B32008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5255-CC39-4289-8B49-D14D141F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48672-7464-42BD-A97E-6B1703DC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4A43E-28D1-43EA-9B0C-4536F0C8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7ADE-0164-46FC-BEE5-570C9BE2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D0EC-B22F-4FB7-97B6-B61FDEBD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7019-C803-44D7-8A65-A8BC9D5E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DEEA-DD21-490F-9846-161AA7B7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E9F8C-AEF9-4096-B800-5113F25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F66D-27FC-42D2-B861-1A87875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A562-89D7-41C2-85B6-89271A3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1AA5-28F0-4019-8BE7-1A0C4F0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2C0E6-3C8C-4281-A8F1-635B54B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3F9F-25C6-4488-A06E-6FC656C3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EE1B4-0131-4FF5-8885-F6920B84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2D1CC-DA0C-4890-AC71-03EB768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031B7-4CC9-421D-8571-3D1B929F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2CAE-4999-453D-8F27-A03C43B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8903-BA10-4A51-8D69-B5C7D77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E908B-A710-44BA-951C-172E5931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B105-3DF2-4257-95F8-F069CDD8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4EF57-3B86-49E5-826E-BA76920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29128-3279-49AA-AFF0-0393776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AD44-0DC4-4819-B855-49955A2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A158B-1542-4A03-9694-2A92432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6D02-B8F4-4CA7-BD6B-A78CA135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37C2-608D-4D05-9667-AE325D23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02B3-77F2-4159-B9FD-AD7A0484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D6132-A106-47FA-BD22-39235346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5DB97-F1C2-47E4-89F8-5010392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F3EA-D204-4D5B-93F6-31789BA0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1ED1-368C-4683-88D3-CC77D2CFF6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0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90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0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90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0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0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90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90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0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1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1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1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1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1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1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1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1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1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1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2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2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2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2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2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3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3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3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3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3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3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4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4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4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4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4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4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4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4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4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5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5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5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5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5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6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6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6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6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6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7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7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sp>
                <p:nvSpPr>
                  <p:cNvPr id="97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97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grpSp>
                <p:nvGrpSpPr>
                  <p:cNvPr id="97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7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7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7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7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7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8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8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8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8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8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9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9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9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9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9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9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9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9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9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9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100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100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0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100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100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0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100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</p:grpSp>
          </p:grpSp>
          <p:grpSp>
            <p:nvGrpSpPr>
              <p:cNvPr id="100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0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0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sp>
              <p:nvSpPr>
                <p:cNvPr id="101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</p:grpSp>
        </p:grpSp>
        <p:grpSp>
          <p:nvGrpSpPr>
            <p:cNvPr id="101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01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1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3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3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98B-E0C8-455B-8136-695F470A796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7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A08E-1B87-4BD5-BE5B-1D418A9D4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grpSp>
          <p:nvGrpSpPr>
            <p:cNvPr id="11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5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59DE-D1AE-4E51-805A-8AD11E531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7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8F07-6339-47F9-B266-E037D9E545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5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5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25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6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6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26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6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6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26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6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6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  <p:sp>
              <p:nvSpPr>
                <p:cNvPr id="26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6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7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7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7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7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7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7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8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8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8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8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8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8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8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8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8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9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9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9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0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0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0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0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0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1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1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1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1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1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1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1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1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1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1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2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2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2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3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3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3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sp>
              <p:nvSpPr>
                <p:cNvPr id="33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  <p:sp>
              <p:nvSpPr>
                <p:cNvPr id="33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  <p:grpSp>
              <p:nvGrpSpPr>
                <p:cNvPr id="33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3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3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3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3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4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4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4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5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5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5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5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5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6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6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6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6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6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</p:grpSp>
          <p:sp>
            <p:nvSpPr>
              <p:cNvPr id="36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6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4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5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6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1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CC0-E098-44EF-A1BD-15992D13A51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2FC-9C30-4B73-B06D-1788ECC3C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8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967A-FC2A-4FB4-B86B-F0302637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2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grpSp>
          <p:nvGrpSpPr>
            <p:cNvPr id="5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6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5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304-1471-478A-A0C3-2083672FB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DB9D-6165-43E9-9354-F66AECC4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95CF-B1FD-4CFA-AAA2-03B55CE94C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72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9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0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E3C8-53F5-4BEC-B6E9-87FB6EC4D2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ee812"/>
                </a:solidFill>
                <a:latin typeface="Bradley Hand ITC"/>
              </a:rPr>
              <a:t>English Language Ar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Trait #3: Voice</a:t>
            </a:r>
            <a:br>
              <a:rPr sz="7200"/>
            </a:b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As teachers, we must remember that voice emerges when the writer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peaks directly to the reader on an emotional le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periments with style to match the purpose and audien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kes risks by revealing the person behind the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Trait #3: Voice</a:t>
            </a:r>
            <a:br>
              <a:rPr sz="7200"/>
            </a:b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Some ways to teach the Voice trait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hare different artists’ recordings of the same s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llustrate the voice tra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pare and contrast (same story, different author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Voices, New Choices (5 letter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Impact"/>
              </a:rPr>
              <a:t>Trait #4: Word Choice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Impact"/>
              </a:rPr>
              <a:t>Word choice isn’t just about the use—or misuse—of words. It is about the use of rich, colorful, precise language that both communicates and inspires the rea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Impact"/>
              </a:rPr>
              <a:t>Students struggle with word choice because too often, language is used to exclude, vocabulary is often taught in isolation, and students tend to get “word drunk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Impact"/>
              </a:rPr>
              <a:t>Trait #4: Word Choice</a:t>
            </a:r>
            <a:br>
              <a:rPr sz="7200"/>
            </a:br>
            <a:r>
              <a:rPr b="0" i="1" lang="en-US" sz="3600" spc="-1" strike="noStrike">
                <a:solidFill>
                  <a:srgbClr val="ffcc00"/>
                </a:solidFill>
                <a:latin typeface="Impact"/>
              </a:rPr>
              <a:t>As teachers, we must teach our students how to use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iking language: Sharpen students descriptive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act language: Using lively verbs, precise nouns, and accurate mod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atural language: Making it sound authen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autiful language: Choosing colorful words and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Impact"/>
              </a:rPr>
              <a:t>Trait #4: Word Choice</a:t>
            </a:r>
            <a:br>
              <a:rPr sz="7200"/>
            </a:br>
            <a:r>
              <a:rPr b="0" i="1" lang="en-US" sz="3600" spc="-1" strike="noStrike">
                <a:solidFill>
                  <a:srgbClr val="ffcc00"/>
                </a:solidFill>
                <a:latin typeface="Impact"/>
              </a:rPr>
              <a:t>Some ways to teach the Choice trait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ainting a picture with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op Ten List of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Finding key words and phrases in captivating tex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ff6f7"/>
                </a:solidFill>
                <a:latin typeface="Impact"/>
              </a:rPr>
              <a:t>Trait # 5: Sentence Fluency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Strong sentence fluency is marked by logic, creative phrasing, parallel construction, alliteration, and word order that makes reading feel nat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Students struggle with sentence fluency because of the overemphasis on correctness, because writing classrooms are too quiet, and because writing good sentences is harder than it l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ff6f7"/>
                </a:solidFill>
                <a:latin typeface="Impact"/>
              </a:rPr>
              <a:t>Trait #5: Sentence Fluency</a:t>
            </a:r>
            <a:br>
              <a:rPr sz="6000"/>
            </a:br>
            <a:r>
              <a:rPr b="0" i="1" lang="en-US" sz="3600" spc="-1" strike="noStrike">
                <a:solidFill>
                  <a:srgbClr val="bff6f7"/>
                </a:solidFill>
                <a:latin typeface="Impact"/>
              </a:rPr>
              <a:t>As teachers, we must help our students with…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Establishing flow, rhythm, and ca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Varying sentence length and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Constructing sentences that enhance mea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ff6f7"/>
                </a:solidFill>
                <a:latin typeface="Impact"/>
              </a:rPr>
              <a:t>Trait #5: Sentence Fluency</a:t>
            </a:r>
            <a:br>
              <a:rPr sz="6000"/>
            </a:br>
            <a:r>
              <a:rPr b="0" i="1" lang="en-US" sz="3600" spc="-1" strike="noStrike">
                <a:solidFill>
                  <a:srgbClr val="bff6f7"/>
                </a:solidFill>
                <a:latin typeface="Impact"/>
              </a:rPr>
              <a:t>Some ways to teach the Sentence Fluency trait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Reading aloud to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Sentence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End with a 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 “</a:t>
            </a: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A rolling stone gathers no mos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Picture your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 “</a:t>
            </a: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This sentence is shor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33"/>
                </a:solidFill>
                <a:latin typeface="Impact"/>
              </a:rPr>
              <a:t>Trait #6: Conven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ventions guide the reader through the text, making ideas readable and understand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ventions = spelling, punctuation, grammar, capitalization, paragraphing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udents struggle with conventions because they don’t see the power of good writing mechanics, and because they aren’t encouraged to take enough risks with their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Impact"/>
              </a:rPr>
              <a:t>Trait #6: Conventions</a:t>
            </a:r>
            <a:br>
              <a:rPr sz="6000"/>
            </a:br>
            <a:r>
              <a:rPr b="0" i="1" lang="en-US" sz="3600" spc="-1" strike="noStrike">
                <a:solidFill>
                  <a:srgbClr val="66ff33"/>
                </a:solidFill>
                <a:latin typeface="Impact"/>
              </a:rPr>
              <a:t>As teachers we shoul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 sure students understand that editing and revising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pect correctness, but only according to appropriate developmental level and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lue experimentation right along with correctness. It’s a balancing 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 patient. Learning to use conventions well take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 6+1 Trait Writing Mod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1523880" y="251424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Wor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Sentence Fl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From </a:t>
            </a: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6+1 Traits of Writing</a:t>
            </a: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By, Ruth Culh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33"/>
                </a:solidFill>
                <a:latin typeface="Impact"/>
              </a:rPr>
              <a:t>Trait #6: Conventions</a:t>
            </a:r>
            <a:br>
              <a:rPr sz="7200"/>
            </a:br>
            <a:r>
              <a:rPr b="0" lang="en-US" sz="3600" spc="-1" strike="noStrike">
                <a:solidFill>
                  <a:srgbClr val="66ff33"/>
                </a:solidFill>
                <a:latin typeface="Impact"/>
              </a:rPr>
              <a:t>Some ways to teach the Conventions trai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Take it ou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Error Hu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Conventions Exper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Reading Backw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Practice Makes Perf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4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Presentation (+1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How the writing looks to the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Writing should have a finished look that shows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Presentation (+1)</a:t>
            </a:r>
            <a:br>
              <a:rPr sz="8000"/>
            </a:br>
            <a:r>
              <a:rPr b="0" i="1" lang="en-US" sz="3600" spc="-1" strike="noStrike">
                <a:solidFill>
                  <a:srgbClr val="000000"/>
                </a:solidFill>
                <a:latin typeface="Impact"/>
              </a:rPr>
              <a:t>As teachers, we need to encourage the following in our students’ wri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Uniform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Legible handwriting; appropriate use of fonts and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Appealing use of whi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ee812"/>
                </a:solidFill>
                <a:latin typeface="Arial"/>
              </a:rPr>
              <a:t>6 + 1 Traits of Writing</a:t>
            </a:r>
            <a:br>
              <a:rPr sz="5400"/>
            </a:br>
            <a:r>
              <a:rPr b="1" i="1" lang="en-US" sz="5400" spc="-1" strike="noStrike">
                <a:solidFill>
                  <a:srgbClr val="dee812"/>
                </a:solidFill>
                <a:latin typeface="Arial"/>
              </a:rPr>
              <a:t>The Complete Gu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y, Ruth Culh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ee812"/>
                </a:solidFill>
                <a:latin typeface="Impact"/>
              </a:rPr>
              <a:t>Trait #1: Ideas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imply stated, ideas make up the content of the writing pie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trong ideas = Clear overall message/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tudents struggle with ideas because writing is complex, they think faster than they can write, and they often don’t write for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ee812"/>
                </a:solidFill>
                <a:latin typeface="Impact"/>
              </a:rPr>
              <a:t>Trait #1: Ideas</a:t>
            </a:r>
            <a:br>
              <a:rPr sz="7600"/>
            </a:br>
            <a:r>
              <a:rPr b="0" i="1" lang="en-US" sz="3600" spc="-1" strike="noStrike">
                <a:solidFill>
                  <a:srgbClr val="ebf25a"/>
                </a:solidFill>
                <a:latin typeface="Impact"/>
              </a:rPr>
              <a:t>As teachers, we must help our students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Select an idea (the top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Narrow the idea (focu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Elaborate on the idea (development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Discover the best information to convey the main idea (details)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ee812"/>
                </a:solidFill>
                <a:latin typeface="Impact"/>
              </a:rPr>
              <a:t>Trait #1: Ideas</a:t>
            </a:r>
            <a:br>
              <a:rPr sz="7000"/>
            </a:br>
            <a:r>
              <a:rPr b="0" i="1" lang="en-US" sz="3600" spc="-1" strike="noStrike">
                <a:solidFill>
                  <a:srgbClr val="ffffcc"/>
                </a:solidFill>
                <a:latin typeface="Impact"/>
              </a:rPr>
              <a:t>Some ways to teach the Ideas trait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Free 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Flashbac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Favorite pla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Picture Thi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String Along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Impact"/>
              </a:rPr>
              <a:t>Trait #2: Organiz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Organization is the internal structure of the piece, the thread of central meaning, the pattern of log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tudents struggle with organization because rigid organization is often overvalued, organization is a difficult thing to achieve, and there is no single program to solve all of our organizational w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Impact"/>
              </a:rPr>
              <a:t>Trait #2: Organization</a:t>
            </a:r>
            <a:br>
              <a:rPr sz="7200"/>
            </a:br>
            <a:r>
              <a:rPr b="0" i="1" lang="en-US" sz="3400" spc="-1" strike="noStrike">
                <a:solidFill>
                  <a:srgbClr val="ff0000"/>
                </a:solidFill>
                <a:latin typeface="Impact"/>
              </a:rPr>
              <a:t>As teachers, we must help our students with…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Impact"/>
              </a:rPr>
              <a:t>Writing an introduction—a lead that hooks the reader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Impact"/>
              </a:rPr>
              <a:t>Developing the middle of the paper—a core that is logically organized and contains clearly linked detail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Impact"/>
              </a:rPr>
              <a:t>Writing the conclusion—an ending that leaves the reader satisfied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Impact"/>
              </a:rPr>
              <a:t>Trait #2 Organization</a:t>
            </a:r>
            <a:br>
              <a:rPr sz="7200"/>
            </a:br>
            <a:r>
              <a:rPr b="0" i="1" lang="en-US" sz="3600" spc="-1" strike="noStrike">
                <a:solidFill>
                  <a:srgbClr val="ff0000"/>
                </a:solidFill>
                <a:latin typeface="Impact"/>
              </a:rPr>
              <a:t>Some ways to teach the Organization trait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Share examples from litera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Teach organizational option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sp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ti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cont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perspec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Trait #3: Voice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oice is the writer’s music coming out through words, the sense that a real person is speaking to you and cares about the messa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udents struggle with voice because it’s not as concrete as other traits, because there is a perception that “boring” is good, because it’s a bit too personal, and because many teachers still say that some forms of writing don’t require vo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8:32:20Z</dcterms:created>
  <dc:creator>Kristen M. Howe</dc:creator>
  <dc:description/>
  <dc:language>en-US</dc:language>
  <cp:lastModifiedBy>Valued Acer Customer</cp:lastModifiedBy>
  <dcterms:modified xsi:type="dcterms:W3CDTF">2011-06-07T15:48:39Z</dcterms:modified>
  <cp:revision>27</cp:revision>
  <dc:subject/>
  <dc:title>The 6 + 1 Trait Writing Model </dc:title>
</cp:coreProperties>
</file>